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78598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6560" y="4245120"/>
            <a:ext cx="78598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424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560" y="424512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4240" y="424512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4440" y="198864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960" y="198864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6560" y="424512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4440" y="424512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1960" y="4245120"/>
            <a:ext cx="2530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6560" y="1988640"/>
            <a:ext cx="785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7859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383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4240" y="1988640"/>
            <a:ext cx="383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4240" y="1988640"/>
            <a:ext cx="383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6560" y="424512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383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4240" y="424512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8640"/>
            <a:ext cx="3835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560" y="4245120"/>
            <a:ext cx="78598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988640"/>
            <a:ext cx="7859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10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2" marL="960120" indent="-191880"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3" marL="1343880" indent="-191880">
              <a:spcBef>
                <a:spcPts val="10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4" marL="1728000" indent="-19188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5" marL="1728000" indent="-19188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lvl="6" marL="1728000" indent="-19188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Y10160157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张三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导师：李四        专业：化学工程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入学年月：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014.9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前攻博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论文题目：复合膜分离层结构优化及性能表征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发表学术论文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篇，其中发表在国外学术刊物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篇、国内核心刊物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篇。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授权中国发明专利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件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[1]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张三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/3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李四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T/3.Novel Swelling-Resistant Sodium Alginate Membrane Branching Modified by Glycogen for Highly Aqueous Ethanol Solution Pervaporation.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ACS Applied Materials &amp; Interfaces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16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卷期号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页码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7243-27253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收录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I 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[2]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张三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/4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李四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T/4.Fabrication and characterization of novel hollow fiber catalytic packing of PFSA-PES-ZrO2 (shell)-TiO2 (core) solid superacid via wet-spinning method.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emical Engineering Science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16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卷期号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52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页码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-11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收录：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I  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[3]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李四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/6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张三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/6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等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一种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XXXX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的制备方法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中华人民共和国国家知识产权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，专利号：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ZL201911119996.7</a:t>
            </a: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，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状态：授权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文本框 2"/>
          <p:cNvSpPr/>
          <p:nvPr/>
        </p:nvSpPr>
        <p:spPr>
          <a:xfrm>
            <a:off x="4483080" y="191628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实际入学时间，非系统时间，制作完毕请删除此行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2"/>
          <p:cNvSpPr/>
          <p:nvPr/>
        </p:nvSpPr>
        <p:spPr>
          <a:xfrm>
            <a:off x="4051800" y="2924280"/>
            <a:ext cx="42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张三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，李四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T/3</a:t>
            </a: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，分母为作者总人数，分子为排序名次，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为通讯，制作完毕请删除此行说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2:05:49Z</dcterms:created>
  <dc:creator>邮差</dc:creator>
  <dc:description/>
  <dc:language>en-US</dc:language>
  <cp:lastModifiedBy>lenovo</cp:lastModifiedBy>
  <cp:lastPrinted>2017-12-25T09:19:37Z</cp:lastPrinted>
  <dcterms:modified xsi:type="dcterms:W3CDTF">2024-05-29T07:52:53Z</dcterms:modified>
  <cp:revision>5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1EFA8B5DD5A4959B4AE5C1ECF462814</vt:lpwstr>
  </property>
  <property fmtid="{D5CDD505-2E9C-101B-9397-08002B2CF9AE}" pid="3" name="KSOProductBuildVer">
    <vt:lpwstr>2052-11.1.0.11830</vt:lpwstr>
  </property>
</Properties>
</file>